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207-6A03-452B-B9E3-CD583243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0A7-AF29-4E81-83E0-4A012E35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E1E-F743-4021-96AF-7907CB55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CFE-85D0-4ED7-AA6E-461B61A6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569-0ABD-4F4F-B038-C7F63DE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113-D140-4746-81CE-E8B16689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A54-2009-4116-8A9F-E5D2605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5E4-AB72-4824-BB80-2158E29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D5C-02D7-483F-8844-0180A328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B52-0EA3-4B4B-91BA-6F9157D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F86-0508-484C-81FA-69EB382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0DB-A48D-4302-8E93-812B5C3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0C6C-466D-491C-8628-9F13DFADD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933480"/>
            <a:ext cx="6400800" cy="487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258920"/>
            <a:ext cx="67820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319040"/>
            <a:ext cx="5562720" cy="453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Golgi Appa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373040"/>
            <a:ext cx="54100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483" r="0" b="0"/>
          <a:stretch/>
        </p:blipFill>
        <p:spPr>
          <a:xfrm>
            <a:off x="1371600" y="1741320"/>
            <a:ext cx="624852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077840"/>
            <a:ext cx="5562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1076400"/>
            <a:ext cx="5105160" cy="492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514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2528" r="0" b="0"/>
          <a:stretch/>
        </p:blipFill>
        <p:spPr>
          <a:xfrm>
            <a:off x="1066680" y="942840"/>
            <a:ext cx="6858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95360" y="887400"/>
            <a:ext cx="63514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317600"/>
            <a:ext cx="86104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441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562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284" r="0" b="0"/>
          <a:stretch/>
        </p:blipFill>
        <p:spPr>
          <a:xfrm>
            <a:off x="1676520" y="1157400"/>
            <a:ext cx="579096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316160"/>
            <a:ext cx="60958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789" r="0" b="0"/>
          <a:stretch/>
        </p:blipFill>
        <p:spPr>
          <a:xfrm>
            <a:off x="1905120" y="1170000"/>
            <a:ext cx="5209920" cy="5078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112760"/>
            <a:ext cx="53341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5104" r="0" b="0"/>
          <a:stretch/>
        </p:blipFill>
        <p:spPr>
          <a:xfrm>
            <a:off x="2057400" y="1309680"/>
            <a:ext cx="5105520" cy="451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28:15Z</dcterms:created>
  <dc:creator>RZ</dc:creator>
  <dc:description/>
  <dc:language>en-US</dc:language>
  <cp:lastModifiedBy>RZ</cp:lastModifiedBy>
  <dcterms:modified xsi:type="dcterms:W3CDTF">2008-02-04T10:48:42Z</dcterms:modified>
  <cp:revision>1</cp:revision>
  <dc:subject/>
  <dc:title>PowerPoint Presentation</dc:title>
</cp:coreProperties>
</file>